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CCE8-888C-44FE-A934-E49B930A3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D704-BC7C-43F3-8880-AA1C777B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6D07-BA4F-49CA-B43F-88DB279DF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D5B8-D80E-4387-8729-4BD9CB9EA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8E6F-1A12-4AAE-8AD8-FDA2824F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6DAE-54F0-4BBB-B39C-EC2276FA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F3B2-9505-4DEA-95C6-B53B8DC2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58E0-F5FD-45E0-9AAD-E33DF71F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9B93-3DCD-4588-A36E-DA3CC4BE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B2B6-24BF-45C7-9FBA-838461EF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4914-90F3-41FF-B62E-30D7481A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D58C-3700-4529-9F3E-492268E3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ir@mrreddy.co.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7E10-6115-4D61-BD73-8E957B116347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60280"/>
            <a:ext cx="8353440" cy="56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7480" indent="-7174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ranslation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628640" indent="-731880">
              <a:lnSpc>
                <a:spcPct val="100000"/>
              </a:lnSpc>
              <a:spcAft>
                <a:spcPts val="2200"/>
              </a:spcAft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slide a shape </a:t>
            </a:r>
            <a:r>
              <a:rPr b="0" lang="en-US" sz="4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628640" indent="-731880">
              <a:lnSpc>
                <a:spcPct val="100000"/>
              </a:lnSpc>
              <a:spcAft>
                <a:spcPts val="2200"/>
              </a:spcAft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change a shape some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628640" indent="-731880">
              <a:lnSpc>
                <a:spcPct val="100000"/>
              </a:lnSpc>
              <a:spcAft>
                <a:spcPts val="2200"/>
              </a:spcAft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direction followed by the hands of a cl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628640" indent="-731880">
              <a:lnSpc>
                <a:spcPct val="100000"/>
              </a:lnSpc>
              <a:spcAft>
                <a:spcPts val="2200"/>
              </a:spcAft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change a shape’s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dissolve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11280" y="260280"/>
            <a:ext cx="8137440" cy="62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7480" indent="-7174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Centre of Englargement –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628640" indent="-731880">
              <a:lnSpc>
                <a:spcPct val="100000"/>
              </a:lnSpc>
              <a:spcAft>
                <a:spcPts val="2200"/>
              </a:spcAft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o turn a sha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628640" indent="-731880">
              <a:lnSpc>
                <a:spcPct val="100000"/>
              </a:lnSpc>
              <a:spcAft>
                <a:spcPts val="2200"/>
              </a:spcAft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point from which a shape is reflec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628640" indent="-731880">
              <a:lnSpc>
                <a:spcPct val="100000"/>
              </a:lnSpc>
              <a:spcAft>
                <a:spcPts val="2200"/>
              </a:spcAft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point from which a shape is enlarg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628640" indent="-731880">
              <a:lnSpc>
                <a:spcPct val="100000"/>
              </a:lnSpc>
              <a:spcAft>
                <a:spcPts val="2200"/>
              </a:spcAft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 place where things are made big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dissolv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11280" y="260280"/>
            <a:ext cx="8137440" cy="60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7480" indent="-71748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gruent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628640" indent="-731880">
              <a:lnSpc>
                <a:spcPct val="100000"/>
              </a:lnSpc>
              <a:spcAft>
                <a:spcPts val="2200"/>
              </a:spcAft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ame of the shape after it has been chang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628640" indent="-731880">
              <a:lnSpc>
                <a:spcPct val="100000"/>
              </a:lnSpc>
              <a:spcAft>
                <a:spcPts val="2200"/>
              </a:spcAft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many times bigger the shape is after enlar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628640" indent="-731880">
              <a:lnSpc>
                <a:spcPct val="100000"/>
              </a:lnSpc>
              <a:spcAft>
                <a:spcPts val="2200"/>
              </a:spcAft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hapes which are exact copies of each 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dissolve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11280" y="260280"/>
            <a:ext cx="813744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7480" indent="-71748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Three-quarter turn –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628640" indent="-731880">
              <a:lnSpc>
                <a:spcPct val="100000"/>
              </a:lnSpc>
              <a:spcAft>
                <a:spcPts val="2200"/>
              </a:spcAft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90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628640" indent="-731880">
              <a:lnSpc>
                <a:spcPct val="100000"/>
              </a:lnSpc>
              <a:spcAft>
                <a:spcPts val="2200"/>
              </a:spcAft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80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628640" indent="-731880">
              <a:lnSpc>
                <a:spcPct val="100000"/>
              </a:lnSpc>
              <a:spcAft>
                <a:spcPts val="2200"/>
              </a:spcAft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70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628640" indent="-731880">
              <a:lnSpc>
                <a:spcPct val="100000"/>
              </a:lnSpc>
              <a:spcAft>
                <a:spcPts val="2200"/>
              </a:spcAft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0.75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dissolve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1280" y="260280"/>
            <a:ext cx="8137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7480" indent="-717480"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rue or False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84240" indent="-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84240" indent="-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ticlockwise means to turn in the same direction as the hands on a cloc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dissolv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11280" y="260280"/>
            <a:ext cx="813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7480" indent="-717480"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rue or Fal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4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4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 the line x=2 all the x coordinates equal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dissolv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1280" y="260280"/>
            <a:ext cx="813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7480" indent="-71748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rue or False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4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4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 the line y=7 all the y coordinates equal 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dissolve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21:46:17Z</dcterms:created>
  <dc:creator>Bruno Reddy</dc:creator>
  <dc:description/>
  <dc:language>en-US</dc:language>
  <cp:lastModifiedBy>Bruno Reddy</cp:lastModifiedBy>
  <dcterms:modified xsi:type="dcterms:W3CDTF">2006-05-23T19:30:15Z</dcterms:modified>
  <cp:revision>3</cp:revision>
  <dc:subject/>
  <dc:title>1.)  2 x n</dc:title>
</cp:coreProperties>
</file>